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AFD2-B12E-4CBA-9E92-DE6C56CBCF04}" type="slidenum">
              <a:rPr b="0" lang="sr-Latn-R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FA81-F392-4327-B2B7-037E172147AB}" type="slidenum">
              <a:rPr b="0" lang="sr-Latn-R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2A1-F0CF-4C20-88D2-15D02D63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38B-C994-44D6-A914-4D5CACE0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FF2-A104-46DA-98D0-8F47348D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543-218A-408F-B901-60C089C5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482B-3813-42F1-80E2-41D42D1B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B591-B8D6-4994-9303-1390A1AD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FD0B-B5F9-4F19-BA1B-80279D0E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D18D-5BE2-42B2-9777-01787EAD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A3F4-87D8-4913-94FB-6C69A77F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4711-6268-44F3-A780-1BC15F8E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1271-D00B-483D-B400-B2059017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4BBA-3395-48E8-B5DB-F2E900C6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0F94-8608-4EC8-AF80-D61679E0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244B-3C47-4CC2-A6DE-B3931C87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180D-E301-432F-AA4E-DE0FD07D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DBE2-C588-419D-9AAD-35CC2AF6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5A2E-A22E-40A7-A2F9-9780A38C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FD9-4943-440F-9864-B2690031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6EF-C9C3-4DF9-9A62-6139D70D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418-B1D3-4946-AB93-D191DE5B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14C-090A-48C2-BEE0-6014F70C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3C59-4BF1-40D1-9586-AC6686C9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4856-127D-472C-8009-CDA50068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AE63-CFE7-4894-B3CF-6841D73F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E5A3-97B2-4ADA-8DF4-AE1449E186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6310-A883-40A3-94A1-3E25B418A6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АПУЛОЗНЕ ДЕРМАТО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З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ДОМИНАНТНА  -  ПАП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ПОДЕЛ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ЕПИДЕРМАЛ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ДЕРМАЛНЕ 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ЕПИДЕРМО-ДЕРМАЛ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Хистопатолош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иперкератоза ортокератотског тип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регуларна хипергранул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сеудоакант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генерација ћелија базалног сло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уполасте папиле дер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имфоцитни инфилтрат дер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hen ruber planus-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Content Placeholder 3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3276720" cy="2133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ференцијална дијагноза и 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soriasis  vulgar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Lichen simplex chronicus –Wid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 л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кално: КС-под оклузиј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UVA-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аствoр циклoспoрина –испирање букал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ahoma"/>
              </a:rPr>
              <a:t>ОПШТА 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sr-C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КС,Ретиноиди,Циклоспорин,Транкилизан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STROPHULUS  INFANT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КУТНА дермато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УРИГИНОЗ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једи инсеката-комарци и був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ЛИНИЧКА СЛИК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оминантна промена серо-папу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ок.-руке и ноге,ређе дланови и таба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ети,деца, од 2-6-те године живо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алет папулозног осипа- траје нек.да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екундарни импетиг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Заштита од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нсеката –дец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АБ ма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2 % раствор еоз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Антипруритик: 1 % ментол у микстур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Molluscum 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Контагиозна –вирусна боле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Многобројне умбиликоване папуле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,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6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Три клиничка обли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код деце,као венерично обољење и код имуносупримираних особ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Content Placeholder 3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105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Content Placeholder 3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46483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Content Placeholder 3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4876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Content Placeholder 3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VERRUCAE  PLANAE JUVENILI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ДЕЧИЈИ УЗРА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АДОЛЕСЦЕНТИ – РЕЂ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Х.П.В. ТИП 3  и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ПАПУЛЕ : 1-5 мм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боја  нормалне коже или беле каф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постоје и скваме 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Лок:  лице и дорзум ша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DDg: molluscum contagio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ЛЕЧЕЊЕ :спон. регресија,криотерапија,кирета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Content Placeholder 3" descr=""/>
          <p:cNvPicPr/>
          <p:nvPr/>
        </p:nvPicPr>
        <p:blipFill>
          <a:blip r:embed="rId1"/>
          <a:stretch/>
        </p:blipFill>
        <p:spPr>
          <a:xfrm>
            <a:off x="1752480" y="2571840"/>
            <a:ext cx="5257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D.Dg. 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Verrrucae planae juveni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Cystae sebace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apillomata acumin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 moll.contag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понтана регрес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риотерап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иретажа оштром кашик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лектрокоагул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Везикулозне  дермато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Vesic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Ретикуларн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егенeрација епидерм.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л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Балонскa дегенeрација епидерм.ћe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Етиопатогенеза : вирус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Инфекције херпес вирусим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двочлани ДНА вирус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erpes 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erpes zo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SV -1  -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изазивач орофацијалних пром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SV-2 –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изазивач гениталног обл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Три фазе болест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примоинфек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латен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мултипли рецидив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Content Placeholder 3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3879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еноси се директним контактом и секрет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Заразни примоафект и рецидив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циденција висо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Примарна инфекц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У детињств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кубација од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д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Клинички облици од инапарентних до врло тешки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Гингивостоматитис и кератоконјуктивит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рит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ултипле болне везикул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розије и плитке улцерац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лузокожа усне дупље, фаринкса,коњунктив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5 до 8 дана ток боле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већање регионалних лимфних жлез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лавобоља са температур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Content Placeholder 3" descr=""/>
          <p:cNvPicPr/>
          <p:nvPr/>
        </p:nvPicPr>
        <p:blipFill>
          <a:blip r:embed="rId1"/>
          <a:stretch/>
        </p:blipFill>
        <p:spPr>
          <a:xfrm>
            <a:off x="1371600" y="2492280"/>
            <a:ext cx="541008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LICHEN RUBER PLAN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ЕПИДЕРМО-ДЕРМАЛНА ЗАРАВЊЕНА ПАПУ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ХРОНИЧНА, РЕЦИДИВАНТНА,ЧЕС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ЈАК ПРУРИГ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ПРОМЕНЕ НА КОЖИ И СЛУЗОКОЖА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Рецидив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 пределу примоафек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етходи свраб,печењ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линичка слика блажа,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8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д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Чешће у раној фаз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Провоцирајући фактор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ференцијална дијагн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Stomatitis apht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Erythema exsudativum multifor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Erythema fix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emphigus vulgar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Хистопатолош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траепидермалне шупљин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егенер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ане пливајуће балонске ћел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ултинуклеарне гигантске ћел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 дну була  садржај за анализ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цитодијагност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simplex genital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SV-2 -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иру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ексуални пут прено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нкубација 2-21 да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имоафект одрас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симптоматска инфекција или клиничка слика(баланитис,вулв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вагинитис,цервицитис,уретритис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Ситне везикуле, болне ерозије, повлаче се за 2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3 недеље,симптоми блаж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simplex genital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6" name="Content Placeholder 3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5867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Лечење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ciclovir  tabl. a 200 mg. (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5 x дневно у току 5 дан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ерапија траје 10 дана код примоинфекције сам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Локално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ciclovir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ерапија рецидива  ефикаснија првог дана од појаве промен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ciclovir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скраћује трајање обољ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њ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евенција рецидива није могућ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pes simplex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код имуносупримираних особ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Неонаталн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pes simpl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кутна дермат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активација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Varicella-Zoster viru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нилатерална локализ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ицијално-везик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тиологиј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ирус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Varicella zo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имоинфекција у дечјем доб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ганглионима нерава корен.кичм.можди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еактивација виру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мањенје имунолошке одбране органииз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нфламација сензитивних нерава –јак бо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нилатерално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ритем са везикула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етходи б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осле 10 дана крус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станак промена за 3 до 4 недељ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уралгије трају 6 месе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ТИОЛОГ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Непозна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Папуле величине:  1 – 10 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Wickham-ове стри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окализациј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Флексорне ст.доруч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Перимал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ар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умбал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Остале реги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ице поштеђе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Клинички облиц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intercostaliis u 50 %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лучајев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sacra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brahia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ophtalmic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trigemin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lumba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DG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z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игр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ардијални б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леурални б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кутни абдом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Фотоалергијске дерматоз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онтакт дерматит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улозни импети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abl. Zovirax a 800 mg.dn. 5 x 1/10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ан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налгетиц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итамин 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.z.ophtalm. и H.z.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муноком. особ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Zovirax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се даје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.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Syndroma  PHN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интракутане инекције са кортизоном или лидокаином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4" descr="__1_0094"/>
          <p:cNvPicPr/>
          <p:nvPr/>
        </p:nvPicPr>
        <p:blipFill>
          <a:blip r:embed="rId1"/>
          <a:stretch/>
        </p:blipFill>
        <p:spPr>
          <a:xfrm>
            <a:off x="914400" y="167652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__9_0014"/>
          <p:cNvPicPr/>
          <p:nvPr/>
        </p:nvPicPr>
        <p:blipFill>
          <a:blip r:embed="rId1"/>
          <a:stretch/>
        </p:blipFill>
        <p:spPr>
          <a:xfrm>
            <a:off x="914400" y="175248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Picture 4" descr="__4_0010"/>
          <p:cNvPicPr/>
          <p:nvPr/>
        </p:nvPicPr>
        <p:blipFill>
          <a:blip r:embed="rId1"/>
          <a:stretch/>
        </p:blipFill>
        <p:spPr>
          <a:xfrm>
            <a:off x="838080" y="167652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4" descr="__2_0095"/>
          <p:cNvPicPr/>
          <p:nvPr/>
        </p:nvPicPr>
        <p:blipFill>
          <a:blip r:embed="rId1"/>
          <a:stretch/>
        </p:blipFill>
        <p:spPr>
          <a:xfrm>
            <a:off x="838080" y="167652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4" descr="__1_0094"/>
          <p:cNvPicPr/>
          <p:nvPr/>
        </p:nvPicPr>
        <p:blipFill>
          <a:blip r:embed="rId1"/>
          <a:stretch/>
        </p:blipFill>
        <p:spPr>
          <a:xfrm>
            <a:off x="838080" y="175248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Нежељене реакције на леков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Честа поја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Тежина клиничке слике варира од благе до теш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Специфич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Могу имитирати или погоршавати многа обољ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Нежељене реакције на леков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Токсични и алергијски егзанте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droma Lyell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токсична епидермална некролиза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ythema fix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јединачне и мозаичне плоч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ерималео. и претиби. предели – хипертрофич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мушкараца –ануларни облик на генита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ебнер-ов феномен –линеарни обл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апилицијум- иреверзибилна алопец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окти-лонгитудиналне бразд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40-60 % болесника – пром. на слузокож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Токсични и алергијски егзанте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Нагли налети генерализовани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макул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 папулозних промена, симетрич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Морбилиформ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Скарлатиниформ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озеол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иформ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Макулопапулозни егзантем у виду еритематозних уздигнутих папула и плочиц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јагн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Клиничка сл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Анамне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Допунске лабораторијске анализ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еукоцитарна форму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Ури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Брис гуше и но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итар А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Титар вирусних антите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Идиопатски облиц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Лечењ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Искључити сумњив ле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Локална кортикостероидна терапија и антипруригинозни леков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лакши обли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Системски кортикостероид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тежи обли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ndroma Lyell (TE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Најтежи облик медикаментозне реакц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Угрожава живо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25 do 30%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болесника завршава летал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Хистолошки некроза епителних ћел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Клинички одлубљивање епидерма и слузокож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ndroma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Lyell (TE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Најчешћи узрочници су лекови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тибиотиц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Сулфонамид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алго-антипиретиц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Барбитура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Инфекције</a:t>
            </a: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вирус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Идиопатски облиц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Грипозни продроми 2 до 3 д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На слузокоже (коњуктивитис, ерозија букалне и ан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гениталне слузокож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Кожа у почетку макулозна ерупција која подсећа на ЕЕ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Касније тамно еритематозне болне плаже са млитавим булама и одлубљивањем великог дела епидер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Content Placeholder 3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1722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Content Placeholder 3" descr=""/>
          <p:cNvPicPr/>
          <p:nvPr/>
        </p:nvPicPr>
        <p:blipFill>
          <a:blip r:embed="rId1"/>
          <a:stretch/>
        </p:blipFill>
        <p:spPr>
          <a:xfrm>
            <a:off x="152280" y="3886200"/>
            <a:ext cx="4743720" cy="2846520"/>
          </a:xfrm>
          <a:prstGeom prst="rect">
            <a:avLst/>
          </a:prstGeom>
          <a:ln w="0">
            <a:noFill/>
          </a:ln>
        </p:spPr>
      </p:pic>
      <p:pic>
        <p:nvPicPr>
          <p:cNvPr id="228" name="Content Placeholder 5" descr=""/>
          <p:cNvPicPr/>
          <p:nvPr/>
        </p:nvPicPr>
        <p:blipFill>
          <a:blip r:embed="rId2"/>
          <a:stretch/>
        </p:blipFill>
        <p:spPr>
          <a:xfrm>
            <a:off x="5067360" y="1828800"/>
            <a:ext cx="4076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0" name="Content Placeholder 7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9184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2" name="Content Placeholder 3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7657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Lichen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слузокoж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Букална-беличаста мрежи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Језик- леукоплакичне плоч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сн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ерозије и улцерац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ингив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еђе генитална слузоко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Подсећа на опарену кож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Николски знак позитив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Опште стање тешк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Течност, протеини и електролити се губ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Суперинфекција и озбиљни хематолошки поремећај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TEN-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пецијалне стерилне јединиц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онтрола електролита и диурез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баланс течности и електроли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нергична примена антибиот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имена К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Плазмафере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Примена интравенских имуноглобул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ythema fix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8" name="Content Placeholder 3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2403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76320" y="3851280"/>
            <a:ext cx="4419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hen ruber planu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Content Placeholder 3" descr=""/>
          <p:cNvPicPr/>
          <p:nvPr/>
        </p:nvPicPr>
        <p:blipFill>
          <a:blip r:embed="rId1"/>
          <a:stretch/>
        </p:blipFill>
        <p:spPr>
          <a:xfrm>
            <a:off x="1676520" y="1879560"/>
            <a:ext cx="601164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hen ruber planus- izomorfni feno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Content Placeholder 3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248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hen ruber planus- u usti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Content Placeholder 4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047760" cy="2419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048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oca</cp:lastModifiedBy>
  <dcterms:modified xsi:type="dcterms:W3CDTF">2017-09-28T17:41:32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